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7F4-14A3-4135-8A21-9E0007B9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476360" y="-399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9A0-7FFE-42EE-B610-07C242F3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4068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1F1-7673-41E7-98D4-5EC89B89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0608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88520" y="-276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47636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30608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88520" y="-399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6FB-20E4-4149-A95F-5EF32609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449-EE01-4782-A0EC-37CCD73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203-C5F4-43E5-B6B7-457F1D5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1C8-CC3E-49A2-A29B-E2BD3638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972-46E5-460E-8CF2-8A548921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6E9-7422-41F5-91E3-7D0D9D5C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0E3-1417-4131-BCCF-33A45A5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40680" y="-399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82F-00D4-41E4-AF32-461A8EE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47636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40680" y="-276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476360" y="-399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E3F-6A61-463F-8CCB-F8DCEA87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1476360" y="-276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84360" y="624492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560" y="54900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836640"/>
            <a:ext cx="1619280" cy="1413000"/>
            <a:chOff x="216000" y="836640"/>
            <a:chExt cx="1619280" cy="1413000"/>
          </a:xfrm>
        </p:grpSpPr>
        <p:sp>
          <p:nvSpPr>
            <p:cNvPr id="6" name=""/>
            <p:cNvSpPr/>
            <p:nvPr/>
          </p:nvSpPr>
          <p:spPr>
            <a:xfrm>
              <a:off x="216000" y="836640"/>
              <a:ext cx="1619280" cy="1413000"/>
            </a:xfrm>
            <a:custGeom>
              <a:avLst/>
              <a:gdLst>
                <a:gd name="textAreaLeft" fmla="*/ 369720 w 1619280"/>
                <a:gd name="textAreaRight" fmla="*/ 1249560 w 1619280"/>
                <a:gd name="textAreaTop" fmla="*/ 322560 h 1413000"/>
                <a:gd name="textAreaBottom" fmla="*/ 109044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2520" y="1105200"/>
              <a:ext cx="999360" cy="845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i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</a:rPr>
                <a:t>Confort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</a:rPr>
                <a:t>locul de munc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gonomie.ro/" TargetMode="External"/><Relationship Id="rId2" Type="http://schemas.openxmlformats.org/officeDocument/2006/relationships/hyperlink" Target="http://www.ergonomie.ro/" TargetMode="External"/><Relationship Id="rId3" Type="http://schemas.openxmlformats.org/officeDocument/2006/relationships/hyperlink" Target="http://www.ergonomie.ro/" TargetMode="External"/><Relationship Id="rId4" Type="http://schemas.openxmlformats.org/officeDocument/2006/relationships/hyperlink" Target="http://www.osha.europa.eu.ro/" TargetMode="External"/><Relationship Id="rId5" Type="http://schemas.openxmlformats.org/officeDocument/2006/relationships/hyperlink" Target="http://www.agame.com/games" TargetMode="External"/><Relationship Id="rId6" Type="http://schemas.openxmlformats.org/officeDocument/2006/relationships/hyperlink" Target="http://www.agame.com/games" TargetMode="External"/><Relationship Id="rId7" Type="http://schemas.openxmlformats.org/officeDocument/2006/relationships/hyperlink" Target="http://www.agame.com/games" TargetMode="External"/><Relationship Id="rId8" Type="http://schemas.openxmlformats.org/officeDocument/2006/relationships/hyperlink" Target="http://www.agame.com/games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MĂ SIMT 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GRU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CL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642456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 Narrow"/>
              </a:rPr>
              <a:t>O ambianţă fizică corespunzătoare principiilor ergonomice asigur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Scăderea obosel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Concentrarea mai bu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Diminuarea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riscurilor de îmbolnăvi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600" y="322200"/>
            <a:ext cx="768996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luminat natural -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ferestre; nu există draperii pentru controlul luminii naturale</a:t>
            </a: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artificial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se utilizează becuri simple care emit o lumină gălbuie obositoare pentru ochi, dau o strălucire mare a obiectelor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Arial Narrow"/>
              </a:rPr>
              <a:t>Nu există 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249280"/>
            <a:ext cx="262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Cromatica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ulori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rec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(gri,albastru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) care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inhibă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omunicarea. Culori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au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fecte psiholog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 nelinişte, reţin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presie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,utilizate în ex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Zgomot 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0-90dB, muzică prea t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Ventilaţie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p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deschiderea ferestr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00360" y="1773360"/>
            <a:ext cx="6443280" cy="6695280"/>
            <a:chOff x="2700360" y="1773360"/>
            <a:chExt cx="6443280" cy="6695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700360" y="1773360"/>
              <a:ext cx="6443280" cy="44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696920" y="4024440"/>
              <a:ext cx="3653640" cy="44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natural -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ferestre; Draperii pentru controlul luminii naturale</a:t>
            </a:r>
            <a:br>
              <a:rPr sz="2000"/>
            </a:b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artificial 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se utilizează lămpi cu descărcări în gaze , pentru a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elimina umbrele şi nu provoacă orbirea prin strălucire, comutator reglabil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Iluminat local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lampă cu braţ flexi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6732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Cromatica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ulorile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(ro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ş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u,portocaliu,galb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favorizează comunic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ulori pastel care au e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de linişte,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bună dispoziţ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echilibru,facilit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ea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deconectarea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ervoas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Zgomot 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50-60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Instalaţie de climatiz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care asigur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Temperatura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21-23°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Umiditatea</a:t>
            </a:r>
            <a:r>
              <a:rPr b="0" lang="ro-RO" sz="2000" spc="-1" strike="noStrike">
                <a:solidFill>
                  <a:srgbClr val="000000"/>
                </a:solidFill>
                <a:latin typeface="Arial Narrow"/>
              </a:rPr>
              <a:t> 50-75% , </a:t>
            </a:r>
            <a:r>
              <a:rPr b="1" i="1" lang="ro-RO" sz="2000" spc="-1" strike="noStrike">
                <a:solidFill>
                  <a:srgbClr val="000000"/>
                </a:solidFill>
                <a:latin typeface="Arial Narrow"/>
              </a:rPr>
              <a:t>Ventilaţie </a:t>
            </a:r>
            <a:r>
              <a:rPr b="0" i="1" lang="ro-RO" sz="2000" spc="-1" strike="noStrike">
                <a:solidFill>
                  <a:srgbClr val="000000"/>
                </a:solidFill>
                <a:latin typeface="Arial Narrow"/>
              </a:rPr>
              <a:t>şi prin deschiderea ferestr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6516720" cy="428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5640" y="907560"/>
            <a:ext cx="5545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În loc de concluzii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2249640"/>
          <a:ext cx="36147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49640"/>
                    <a:ext cx="36147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932360" y="2251080"/>
          <a:ext cx="3592440" cy="46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251080"/>
                    <a:ext cx="359244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620640"/>
            <a:ext cx="66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BIBLIOGRAFIE /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RESURS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63640" y="2565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Popescu, E., ( 1986), </a:t>
            </a:r>
            <a:r>
              <a:rPr b="0" i="1" lang="ro-RO" sz="3200" spc="-1" strike="noStrike">
                <a:solidFill>
                  <a:srgbClr val="000000"/>
                </a:solidFill>
                <a:latin typeface="Arial Narrow"/>
              </a:rPr>
              <a:t>Ghid ergonomic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Arial Narrow"/>
              </a:rPr>
              <a:t>Editura Dacia, Cluj Na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. 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ergonomie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www.osha.europa.eu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www.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7"/>
              </a:rPr>
              <a:t>agame.co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/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 Narrow"/>
              </a:rPr>
              <a:t>www. ergo.human.cornell.ed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33:52Z</dcterms:created>
  <dc:creator>sorina</dc:creator>
  <dc:description/>
  <dc:language>en-US</dc:language>
  <cp:lastModifiedBy>sorina</cp:lastModifiedBy>
  <dcterms:modified xsi:type="dcterms:W3CDTF">2009-12-13T08:06:01Z</dcterms:modified>
  <cp:revision>11</cp:revision>
  <dc:subject/>
  <dc:title>Slide 1</dc:title>
</cp:coreProperties>
</file>